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AA6-F6CB-44C6-A49C-5DC24A0F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D01E-CBF8-4E54-A158-9565F97B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23174-0C7A-42A3-B1E8-8C2B1638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54B8B-A2FE-47E7-ACDE-AFC0BD28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9BBEB-48BD-4EAB-87A9-490BE4B8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AAD6B-4A7F-4412-AF37-2ECACE74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F7029-6208-4F3E-A0E7-A38C462B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89EC9-0581-43BE-A909-337C8FC8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D32B6-4C69-414D-9A8A-B898BA2A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AD4BC-16A3-4A33-87AA-EA3E69F8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1E678-2DB3-4E82-820A-7D9775D8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EA680-0BBF-4071-ABB1-E0ACB957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BAE-B775-4A1C-8710-422BE6E8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2F714-2851-4806-970D-67BA2FB2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87204-1034-4A6D-89FF-FACE7892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3AFC1-2BFE-4F8F-8BAD-DDDC9C2F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8FD5A-6E67-4D13-9729-F502792F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FFBFC-4921-40B5-A9CD-7E9CC4F6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50B6D-34E0-46B2-BA9B-287607F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00281-1E79-46EA-B3AA-E4EB6630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9B32F-BBB4-4DAB-A253-3B5225C6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B4497-8BCA-4553-9240-5A89DE34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8AE84-521C-4984-BAFF-6E2EF0EB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C27-6E95-40A4-9B8B-EE6DC8ED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7B743-4028-404C-8918-5C68CF98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6F70C-4D28-4DC5-9983-A7CDC521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42251-BCE0-45BD-B747-BFE830E9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1C4FB-F3CB-4BE4-91D0-B743770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2995F-CC07-4F42-9D38-2A2223C0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FC4CA-0222-43FB-9131-9A860B8F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72B58-E1ED-4FE5-9B68-F2A62B43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2BAAC-A807-4085-9454-DA0F5CAD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69DB1-3ACC-4B41-8C00-A825D874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51C81-20AE-4D88-AFF2-F87C1644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7120-05BB-4A61-8A66-4704174B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906C8-915F-48A0-B1C4-BC1B759E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5044C-E527-4617-8EF1-19082FF7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2704F-A1AD-4867-AF9B-4FB4071E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26B2F-9793-454B-979F-8798211F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1413B-C6BB-4242-809A-5D4FF349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36096-9097-4FEF-B0B2-A53581BB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5D2D6-186A-4437-9772-6C6786FC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87757-9D5D-4403-AB6A-C3EFA128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BF3C9-44B0-45AF-887A-CC1B28E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96010-30BE-42D4-BF5E-94B51541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23E7-C529-421C-BF80-05E8A359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40504-A9BF-465B-BB64-60C9FFA5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F1E51-D49B-4489-951F-3F42896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6D96C-4D89-4B93-A34E-4702DC98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85DCF-5394-45BE-9559-15A01F58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E0EB7-D46E-4578-9471-E4DAA1F1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9FBCC-7B2C-496F-8CDC-3BF4378F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4269B-C759-4600-88D1-E52F0D76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3B935-F71C-4E69-96C8-244DFCE6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7C2A2-5C31-4C4A-9A32-46E78ADE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BE696-4FEB-4067-A595-5271589D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4ADE-8C17-433B-BB2D-B8741996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B3C45-031B-46DF-9F08-1DBE62C9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1CF7E-3332-49A7-9704-480FEBEB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8CF0D-6512-4DC8-AC19-69F8BAE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71936-1831-4FEB-B3A3-87F7B91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D17C4-53CA-4FF2-850A-913C012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1F80D-F743-4889-8762-9BFD34AD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A7F3AD-4D58-4314-8421-8AB7F6CB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D553B-AF78-42C8-BCCC-F034C239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EAB94-AA07-4909-B912-A51FE28B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A0189-3C9D-4260-BDBB-030BDF5A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19BD-D512-4F75-B398-A04486B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5BD40-FEE7-42DD-8B95-A9F86588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40D74-5BB8-4796-AB6A-E9A623EB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A604D-67C1-40B7-9737-7D5424DA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E949E-34FA-45ED-AFA7-106C1FB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46883-EEA1-4735-BCB9-522910C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57399-CD2B-4BC2-B07C-E36205C6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22241-22BF-4ABB-88DD-1BE40C25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79696-44FC-4BEE-BBE8-B432A7A3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C6C17-D9DD-47E7-B474-8DF5E1BD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25F7C3-B1FA-4728-BE66-F80F49E0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A47A-1EA3-4268-8DAE-652AFD4C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DE0143-1381-41A3-9366-9DCA51C5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FB782-CC63-4FF8-8590-59992B84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DFDBD-D2A9-4E92-A075-3D3B0B1B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F6E2A-1E96-4AE4-A303-ECC405BF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47496E-66DF-4CBE-98EC-E96CB7C8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9CF83-9CDD-44CF-8978-36BB315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99DCA-96D4-40A3-ABDA-28776194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A5058-1818-46B9-8648-80AE82BE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1453B-CA36-4809-9A15-21EC8BD6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726D6-8283-42E8-82FE-2B554A96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C95C-0329-4895-9643-E87ED7C3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9BCE6-5318-42A3-BD7A-E38FBCC4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DEA68-A96E-4F25-8576-C9B42321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A72FF-7A15-4070-8DF0-7192C4E5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9233A-5510-47D7-B4A9-7974016A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4406A-5F34-4FD7-8A9D-6F794BB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2E3A7E-C240-4FAD-A3C0-3E917724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AF31C7-86ED-408C-8FB1-75B4805F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10798-753C-48B9-AB13-726117C4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DD6E8-0502-4CDF-B742-6EB0103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9B513-060F-4824-87D9-50057D8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DFB6-FCAB-4F03-81B7-5A3F9692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FF0A6-D032-4654-AC33-9B302741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CCC8A-BDA1-4DDE-8452-9285AD2F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77B4B-AD6E-498C-AA08-F8274108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0C3-FAEB-400C-AC07-4227A296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D02D-99D5-48F4-A126-4BBD13EC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D679-E9AF-43B8-AC36-2B913D0D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0C56-51B7-4885-BF56-D95D8206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16FB-1F82-4A64-895F-9EA2B561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2C93-492A-4855-9432-408BEE85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661AE-962E-4319-9D59-8304BC5D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F2CF-778B-4812-BE12-7266DEDD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FF24-9CAB-450E-816E-66CCDEF0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CB8A-B1AB-4E42-9620-818D8AB8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D834-7963-4297-B6CB-C736D6DE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6EED-1AF2-44AB-B4B1-E35D8A7D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BD363-2EC0-4DCE-B5A7-4ECE7945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DFF4-97F1-400C-8F91-64888AB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5A93-07E4-47CD-AD0F-C911FB96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263C-34D6-4E0A-A19F-CD71C066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65C9-74C4-4925-B5A0-66EBAAFA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A210-D090-46FC-A534-E564B627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D148F-31F7-4AA4-9461-7A788167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8A15-49FC-4590-82FB-24DF7AD9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FF5C4-E055-4CBE-82A6-B97C134C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0610C-45C6-41CB-B099-E57FD4CC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025-6E1A-4591-8A78-A41BDCDB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6194A-AADD-4B9E-AC15-081DB7E9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2A96F-92FD-4C4F-BFC4-1850C3D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4BA51-1797-4E93-A3CB-B3A6E8A7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F365-7D7C-45DE-8CE5-1257463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BC697-BA16-4CD7-9458-E194C8D0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6271F-F853-4BC3-9765-F703177E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6BA9-86C4-48C0-BEC0-5FE25033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1560-02B1-4AF7-81D4-02414292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24D9C-1E3E-417F-B852-5677DC21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70EB6-ED36-47FF-A9DB-3E8F2E84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5D0-EAEF-4DFD-A439-3BC7BFFB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1F6AE-D1E3-4853-B305-849A0392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43A7-90B6-4AE9-9158-789F7FE7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B4E4E-0CE6-4B79-8E6F-41884D30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40D63-B509-4260-AABE-7B2C4C7B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AEB63-E5B9-4A00-9453-8B992C12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CA85-EAC1-4F4F-B59D-03F30874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D7AC7-982C-4478-82C4-A619B185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C1B1-2D02-4580-8D83-EF6A286F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EBBFC-7B90-4DCA-864C-C6221530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49A7-FBB4-40DC-81ED-946552B5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293-B16B-4E81-9A72-B88BC3D8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A9B8-4CF5-4A09-B36B-1CA1CFDF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B63BF-7CEA-4306-ABBB-F7A48640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8B9DA-4CF2-4024-8D3C-A3605034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4D735-F095-4860-A440-7BF39291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7AE0E-2C2B-425D-BF1C-D4DBBD14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D3D07-86EF-4B69-A0A7-02843AF6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16701-A8C9-4276-B73A-D29E836E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582FF-57EA-4752-ACE6-0F83FF2D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60ECE-5377-453C-9833-0E1EC62E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D6C2F-1D88-41FD-BB3F-832F262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4F9-21C3-4286-AF8A-996848B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8DA7-C7F1-4BEB-9C02-BCF37879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0031D-489C-4BB5-AB12-A38B8042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9B99C-49B9-47E1-AF97-49B49E62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F4C58-3F24-45F8-8053-87F17C4E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34775-634E-47B5-884B-C4A7805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D85D4-FA8A-4DF8-8412-3E15D9D9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61777-43D5-4299-8DFC-40A8ED4E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5D06B-7359-44C9-8790-9EF52067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12D19-7EC9-4042-B59A-0894E371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E7264-612D-42CD-AD19-6B14A881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25E-F5C5-4D46-BFEC-46084D85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F7A7-F884-4A35-A08C-645A72E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2F4F6-BAF5-43D5-9452-DC9DE52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8233F-646D-45DD-B9C7-2F8D76E7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F6046-0C34-4AD7-A7B8-D7005609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921DB-CD0F-4B4B-A71A-DDA1409A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4E114-91D8-44F0-961A-19449F4B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F52FB-2F96-450E-97B2-6D609768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73862-02FB-4AEE-9204-E513B9A0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586A-5AAF-4A77-B881-F5DF3185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DFAAF-C7E5-4D32-9AB3-C0E7B368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A55-B749-4F4E-9652-DAB218D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AEADB-868E-40F2-B3ED-EEC46C7D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FBFEC-CFE0-431A-8263-6D636FA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B0451-EA02-4EC1-B224-82CD94B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28D7E-1595-4609-9E88-CA92759F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0D0E0-1D48-496E-BBDF-67A8103C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C6AC7-C532-4A33-A849-46E2F591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5CA17-693B-4CC5-AC0F-8E36C51F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F7EC7-E05A-448B-8FD3-61E881E2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73997-A966-4AC0-B661-037E36F3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5D8BB-A9AC-49A2-8524-90C68F9F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ľná forma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ľná forma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uhlý trojuho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ovná spojnic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4E4C-290E-4B07-BA5C-E9D55777EF23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ravouhlý trojuho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Skupin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19" name="Voľná forma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Voľná forma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Voľná forma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22" name="Voľná forma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4" name="Rovná spojnic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C120-ADF5-422F-B13D-969084155C46}" type="slidenum">
              <a:rPr b="0" lang="sk-SK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Voľná forma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Voľná forma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9" name="Pravouhlý trojuho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Rovná spojnic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2" name="Výlož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Výlož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4E97-4D04-4255-9650-6CA17103FE30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Voľná forma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Voľná forma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8" name="Pravouhlý trojuho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Rovná spojnic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7D72-1A20-4677-A0EF-26B5BCECBE8F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6112-6863-4E9A-BD59-9BD672D0940D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Voľná forma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Voľná forma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06" name="Pravouhlý trojuho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8" name="Rovná spojnic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03F7-1911-445F-B123-4D547D71E737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E812-C984-43B4-8712-045D995EE867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Voľná forma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Voľná forma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Pravouhlý trojuho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94" name="Pravouhlý trojuho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Rovná spojnic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97" name="Výlož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Výlož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F0CF-904F-40F7-B82C-59BA45E64B0B}" type="slidenum">
              <a:rPr b="0" lang="sk-SK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Voľná forma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Voľná forma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Pravouhlý trojuho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Rovná spojnic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CE0A-EB62-4BE4-8046-ECDB4EC44A94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ravouhlý trojuho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Skupin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6" name="Voľná forma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Voľná forma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Voľná forma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9" name="Voľná forma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Rovná spojnica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16DA-8292-4488-B44C-1F8C990FE6CF}" type="slidenum">
              <a:rPr b="0" lang="sk-SK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ľná forma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ľná forma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uhlý trojuho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Rovná spojnic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Výlož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Výlož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0E4F-2940-4FF4-9603-4F0D0BCC5776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ľná forma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ľná forma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uhlý trojuho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Rovná spojnic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229A-A91E-4C13-A044-21A4A06680F7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AEAE-43D0-4F4C-89C5-4909F7ABC8FE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ľná forma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ľná forma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uhlý trojuho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uhlý trojuho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Rovná spojnic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02AA-69EA-4CDC-A55C-8E1EAC773510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B717-42D0-4F10-B01D-FD851344D93A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ľná forma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ľná forma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uhlý trojuho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uhlý trojuho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Rovná spojnic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Výlož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Výlož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641-E9A2-4809-B00F-CB5CBA029516}" type="slidenum">
              <a:rPr b="0" lang="sk-SK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"/>
          <p:cNvPicPr/>
          <p:nvPr/>
        </p:nvPicPr>
        <p:blipFill>
          <a:blip r:embed="rId1"/>
          <a:srcRect l="0" t="420" r="2649" b="4876"/>
          <a:stretch/>
        </p:blipFill>
        <p:spPr>
          <a:xfrm>
            <a:off x="1214280" y="2000160"/>
            <a:ext cx="6264360" cy="3808440"/>
          </a:xfrm>
          <a:prstGeom prst="rect">
            <a:avLst/>
          </a:prstGeom>
          <a:ln w="0">
            <a:noFill/>
          </a:ln>
        </p:spPr>
      </p:pic>
      <p:pic>
        <p:nvPicPr>
          <p:cNvPr id="741" name="Nadpis 1" descr=""/>
          <p:cNvPicPr/>
          <p:nvPr/>
        </p:nvPicPr>
        <p:blipFill>
          <a:blip r:embed="rId2"/>
          <a:stretch/>
        </p:blipFill>
        <p:spPr>
          <a:xfrm>
            <a:off x="950760" y="268200"/>
            <a:ext cx="77425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2" descr=""/>
          <p:cNvPicPr/>
          <p:nvPr/>
        </p:nvPicPr>
        <p:blipFill>
          <a:blip r:embed="rId1"/>
          <a:srcRect l="0" t="-628" r="28299" b="16975"/>
          <a:stretch/>
        </p:blipFill>
        <p:spPr>
          <a:xfrm>
            <a:off x="3571920" y="1000080"/>
            <a:ext cx="5186160" cy="4643640"/>
          </a:xfrm>
          <a:prstGeom prst="rect">
            <a:avLst/>
          </a:prstGeom>
          <a:ln w="0">
            <a:noFill/>
          </a:ln>
        </p:spPr>
      </p:pic>
      <p:pic>
        <p:nvPicPr>
          <p:cNvPr id="769" name="Nadpis 1" descr=""/>
          <p:cNvPicPr/>
          <p:nvPr/>
        </p:nvPicPr>
        <p:blipFill>
          <a:blip r:embed="rId2"/>
          <a:stretch/>
        </p:blipFill>
        <p:spPr>
          <a:xfrm>
            <a:off x="23760" y="182520"/>
            <a:ext cx="8669520" cy="12445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0" y="1071360"/>
            <a:ext cx="35402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Lucida Sans Unicode"/>
              </a:rPr>
              <a:t>Priebežná uzávierka skladu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Lucida Sans Unicode"/>
              </a:rPr>
              <a:t>Po spracovaní inventúry je predposledným krokom spracovanie priebežných uzávierok jednotlivých stredísk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Lucida Sans Unicode"/>
              </a:rPr>
              <a:t>Tento krok je podmienený spracovaním všetkých dokladov a správnym uzavretím inventúrnych stavov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Lucida Sans Unicode"/>
              </a:rPr>
              <a:t>Pri priebežnej uzávierke stredísk sa vytvárajú tlačové zostavy pre podklady do účtovníctva (inventúrna zostava, zostava mesačných pohybov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Lucida Sans Unicode"/>
              </a:rPr>
              <a:t>Priebežnú uzávierku je možné urobiť kedykoľvek v priebehu mesiaca, kde konečné stavy sa dosadia do počiatočných stavov zásob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"/>
          <p:cNvPicPr/>
          <p:nvPr/>
        </p:nvPicPr>
        <p:blipFill>
          <a:blip r:embed="rId1"/>
          <a:srcRect l="0" t="-510" r="29011" b="43176"/>
          <a:stretch/>
        </p:blipFill>
        <p:spPr>
          <a:xfrm>
            <a:off x="285840" y="857160"/>
            <a:ext cx="4093920" cy="2786040"/>
          </a:xfrm>
          <a:prstGeom prst="rect">
            <a:avLst/>
          </a:prstGeom>
          <a:ln w="0">
            <a:noFill/>
          </a:ln>
        </p:spPr>
      </p:pic>
      <p:pic>
        <p:nvPicPr>
          <p:cNvPr id="772" name="Nadpis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24452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4714560" y="1071720"/>
            <a:ext cx="442908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Lucida Sans Unicode"/>
              </a:rPr>
              <a:t>Mesačná uzávierka skladu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Lucida Sans Unicode"/>
              </a:rPr>
              <a:t>Po spracovaní všetkých mesačných pohybov a po potvrdení priebežných uzávierok sa účtovné obdobie ukončí mesačnou uzávierkou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Lucida Sans Unicode"/>
              </a:rPr>
              <a:t>Tento krok zabezpečí prechod do nového účtovného obdobi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Lucida Sans Unicode"/>
              </a:rPr>
              <a:t>Na mesačnej uzávierke  je uvedený sumár všetkých počiatočných a konečných stavov jednotlivých stredísk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4" name="Picture 2" descr=""/>
          <p:cNvPicPr/>
          <p:nvPr/>
        </p:nvPicPr>
        <p:blipFill>
          <a:blip r:embed="rId3"/>
          <a:srcRect l="3296" t="0" r="0" b="5406"/>
          <a:stretch/>
        </p:blipFill>
        <p:spPr>
          <a:xfrm>
            <a:off x="2857680" y="3857760"/>
            <a:ext cx="6286320" cy="2500200"/>
          </a:xfrm>
          <a:prstGeom prst="rect">
            <a:avLst/>
          </a:prstGeom>
          <a:ln w="0">
            <a:noFill/>
          </a:ln>
        </p:spPr>
      </p:pic>
      <p:sp>
        <p:nvSpPr>
          <p:cNvPr id="775" name="Zástupný symbol textu 3"/>
          <p:cNvSpPr/>
          <p:nvPr/>
        </p:nvSpPr>
        <p:spPr>
          <a:xfrm>
            <a:off x="214200" y="4572000"/>
            <a:ext cx="25005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Lucida Sans Unicode"/>
              </a:rPr>
              <a:t>Mesačná uzávierková zost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Lucida Sans Unicode"/>
              </a:rPr>
              <a:t>Poskytuje komplexnú informáciu pre účtovníct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Zástupný symbol obsahu 3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7" name="Nadpis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Lucida Sans Unicode"/>
              </a:rPr>
              <a:t>Vytvorenie skladových karie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Lucida Sans Unicode"/>
              </a:rPr>
              <a:t>Kalkuláci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Lucida Sans Unicode"/>
              </a:rPr>
              <a:t>Zavedenie pohybov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Lucida Sans Unicode"/>
              </a:rPr>
              <a:t>Export  tovarov do pokladnic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Lucida Sans Unicode"/>
              </a:rPr>
              <a:t>Spracovanie spotreb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Lucida Sans Unicode"/>
              </a:rPr>
              <a:t>Inventúr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Lucida Sans Unicode"/>
              </a:rPr>
              <a:t>Vyhodnotenie skutočných a inventúrnych stavov a monitorovanie spotreb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Lucida Sans Unicode"/>
              </a:rPr>
              <a:t>Uzávierky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43" name="Nadpis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Nadpis 1" descr=""/>
          <p:cNvPicPr/>
          <p:nvPr/>
        </p:nvPicPr>
        <p:blipFill>
          <a:blip r:embed="rId1"/>
          <a:stretch/>
        </p:blipFill>
        <p:spPr>
          <a:xfrm>
            <a:off x="585720" y="268200"/>
            <a:ext cx="7435800" cy="9511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"/>
          <p:cNvPicPr/>
          <p:nvPr/>
        </p:nvPicPr>
        <p:blipFill>
          <a:blip r:embed="rId2"/>
          <a:srcRect l="0" t="-383" r="28213" b="8031"/>
          <a:stretch/>
        </p:blipFill>
        <p:spPr>
          <a:xfrm>
            <a:off x="714240" y="1500120"/>
            <a:ext cx="4086360" cy="364356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 txBox="1"/>
          <p:nvPr/>
        </p:nvSpPr>
        <p:spPr>
          <a:xfrm>
            <a:off x="4957920" y="1500120"/>
            <a:ext cx="390024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Skladová karta obsahuje všetky informácie o stave zásob a spotrebe tovaru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Pri vytváraní skladových kariet sa rozlišujú karty pre suroviny do kalkulácií a karty pre obchodný tovar (ďalej len O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OT – sa </a:t>
            </a:r>
            <a:r>
              <a:rPr b="1" i="1" lang="sk-SK" sz="1600" spc="-1" strike="noStrike">
                <a:solidFill>
                  <a:srgbClr val="000000"/>
                </a:solidFill>
                <a:latin typeface="Lucida Sans Unicode"/>
              </a:rPr>
              <a:t>prijíma</a:t>
            </a: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 na sklad vkusoc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OT – sa </a:t>
            </a:r>
            <a:r>
              <a:rPr b="1" i="1" lang="sk-SK" sz="1600" spc="-1" strike="noStrike">
                <a:solidFill>
                  <a:srgbClr val="000000"/>
                </a:solidFill>
                <a:latin typeface="Lucida Sans Unicode"/>
              </a:rPr>
              <a:t>predáva</a:t>
            </a: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 v nezmenenom stave, v kusoch, alebo v príslušných merných jednotkác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Suroviny – sa </a:t>
            </a:r>
            <a:r>
              <a:rPr b="1" i="1" lang="sk-SK" sz="1600" spc="-1" strike="noStrike">
                <a:solidFill>
                  <a:srgbClr val="000000"/>
                </a:solidFill>
                <a:latin typeface="Lucida Sans Unicode"/>
              </a:rPr>
              <a:t>prijímajú  </a:t>
            </a: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v kusoch a na základe balenia tovarov sa prepočítajú na kilogram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Nadpis 2" descr=""/>
          <p:cNvPicPr/>
          <p:nvPr/>
        </p:nvPicPr>
        <p:blipFill>
          <a:blip r:embed="rId1"/>
          <a:stretch/>
        </p:blipFill>
        <p:spPr>
          <a:xfrm>
            <a:off x="731880" y="268200"/>
            <a:ext cx="6931080" cy="11527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rcRect l="0" t="0" r="23970" b="6661"/>
          <a:stretch/>
        </p:blipFill>
        <p:spPr>
          <a:xfrm>
            <a:off x="1428840" y="2071800"/>
            <a:ext cx="6500880" cy="379872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 txBox="1"/>
          <p:nvPr/>
        </p:nvSpPr>
        <p:spPr>
          <a:xfrm>
            <a:off x="857160" y="857160"/>
            <a:ext cx="750096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Normovanie surovín sa pripravuje na 10 porcií pre jedlá a na 1 porciu pre miešané a teplé nápoj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Poradové čísla kalkulácií slúžia aj ako PLU kódy pre pokladnic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BlokTextu 4"/>
          <p:cNvSpPr/>
          <p:nvPr/>
        </p:nvSpPr>
        <p:spPr>
          <a:xfrm>
            <a:off x="785880" y="1428840"/>
            <a:ext cx="3643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Nadpis 1" descr=""/>
          <p:cNvPicPr/>
          <p:nvPr/>
        </p:nvPicPr>
        <p:blipFill>
          <a:blip r:embed="rId1"/>
          <a:stretch/>
        </p:blipFill>
        <p:spPr>
          <a:xfrm>
            <a:off x="512640" y="189000"/>
            <a:ext cx="7435800" cy="96336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2" descr=""/>
          <p:cNvPicPr/>
          <p:nvPr/>
        </p:nvPicPr>
        <p:blipFill>
          <a:blip r:embed="rId2"/>
          <a:srcRect l="0" t="-373" r="25739" b="4209"/>
          <a:stretch/>
        </p:blipFill>
        <p:spPr>
          <a:xfrm>
            <a:off x="357120" y="1428840"/>
            <a:ext cx="4148280" cy="392904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 txBox="1"/>
          <p:nvPr/>
        </p:nvSpPr>
        <p:spPr>
          <a:xfrm>
            <a:off x="4500720" y="1500120"/>
            <a:ext cx="4357440" cy="39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Pri príjme tovaru od dodávateľov zadávame pohyby na už zadefinované skladové karty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Obchodný tovar (ďalej len OT) a suroviny sa </a:t>
            </a:r>
            <a:r>
              <a:rPr b="1" i="1" lang="sk-SK" sz="1800" spc="-1" strike="noStrike">
                <a:solidFill>
                  <a:srgbClr val="000000"/>
                </a:solidFill>
                <a:latin typeface="Lucida Sans Unicode"/>
              </a:rPr>
              <a:t>prijímajú</a:t>
            </a: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 na hlavný sklad a neskôr sa presúvajú na strediská </a:t>
            </a:r>
            <a:r>
              <a:rPr b="1" i="1" lang="sk-SK" sz="1800" spc="-1" strike="noStrike">
                <a:solidFill>
                  <a:srgbClr val="000000"/>
                </a:solidFill>
                <a:latin typeface="Lucida Sans Unicode"/>
              </a:rPr>
              <a:t>výdajkou, </a:t>
            </a: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alebo priamo pomocou funkcie </a:t>
            </a:r>
            <a:r>
              <a:rPr b="1" i="1" lang="sk-SK" sz="1800" spc="-1" strike="noStrike">
                <a:solidFill>
                  <a:srgbClr val="000000"/>
                </a:solidFill>
                <a:latin typeface="Lucida Sans Unicode"/>
              </a:rPr>
              <a:t>exportu </a:t>
            </a: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sa pripisujú do stavových zásob jednotlivých stredís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OT a suroviny sa z jednotlivých stredísk presúvajú pomocou funkcie </a:t>
            </a:r>
            <a:r>
              <a:rPr b="1" i="1" lang="sk-SK" sz="1800" spc="-1" strike="noStrike">
                <a:solidFill>
                  <a:srgbClr val="000000"/>
                </a:solidFill>
                <a:latin typeface="Lucida Sans Unicode"/>
              </a:rPr>
              <a:t>medzistrediskový presu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Nadpis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7643880" cy="1152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2" descr=""/>
          <p:cNvPicPr/>
          <p:nvPr/>
        </p:nvPicPr>
        <p:blipFill>
          <a:blip r:embed="rId2"/>
          <a:srcRect l="0" t="0" r="25736" b="3831"/>
          <a:stretch/>
        </p:blipFill>
        <p:spPr>
          <a:xfrm>
            <a:off x="357120" y="1785960"/>
            <a:ext cx="4442040" cy="363708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 txBox="1"/>
          <p:nvPr/>
        </p:nvSpPr>
        <p:spPr>
          <a:xfrm>
            <a:off x="4857480" y="2428560"/>
            <a:ext cx="385740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Táto funkcia sa využíva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pri prvotnom zasielaní PLU    do pokladnic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pri precenení tovarov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pri vytvorení nových  kalkulácií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Lucida Sans Unicode"/>
              </a:rPr>
              <a:t>pri prijatí nového obchodného tovaru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Nadpis 1" descr=""/>
          <p:cNvPicPr/>
          <p:nvPr/>
        </p:nvPicPr>
        <p:blipFill>
          <a:blip r:embed="rId1"/>
          <a:stretch/>
        </p:blipFill>
        <p:spPr>
          <a:xfrm>
            <a:off x="585720" y="-6480"/>
            <a:ext cx="7454880" cy="9399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642600" y="4786200"/>
            <a:ext cx="40402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500" spc="-1" strike="noStrike">
                <a:solidFill>
                  <a:srgbClr val="000000"/>
                </a:solidFill>
                <a:latin typeface="Lucida Sans Unicode"/>
              </a:rPr>
              <a:t>z pokladnice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Lucida Sans Unicode"/>
              </a:rPr>
              <a:t>po dennej uzávierke na pokladnici sa vytvorí spotrebná a účtovná dávka, ktorá sa cez funkciu </a:t>
            </a:r>
            <a:r>
              <a:rPr b="1" i="1" lang="sk-SK" sz="1500" spc="-1" strike="noStrike">
                <a:solidFill>
                  <a:srgbClr val="000000"/>
                </a:solidFill>
                <a:latin typeface="Lucida Sans Unicode"/>
              </a:rPr>
              <a:t>spracovanie dávok  </a:t>
            </a:r>
            <a:r>
              <a:rPr b="0" lang="sk-SK" sz="1500" spc="-1" strike="noStrike">
                <a:solidFill>
                  <a:srgbClr val="000000"/>
                </a:solidFill>
                <a:latin typeface="Lucida Sans Unicode"/>
              </a:rPr>
              <a:t>odpíše zo skladových zásob strediska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59" name="Picture 2" descr=""/>
          <p:cNvPicPr/>
          <p:nvPr/>
        </p:nvPicPr>
        <p:blipFill>
          <a:blip r:embed="rId2"/>
          <a:srcRect l="0" t="2452" r="36348" b="6227"/>
          <a:stretch/>
        </p:blipFill>
        <p:spPr>
          <a:xfrm>
            <a:off x="785880" y="1143000"/>
            <a:ext cx="3654360" cy="335772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1640" y="4714920"/>
            <a:ext cx="40417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Lucida Sans Unicode"/>
              </a:rPr>
              <a:t>z rautov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pri usporiadaní akcií na faktúru, sa zoznam tovarov odpíše zo strediska zvoleného v hlavičke rautu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61" name="Picture 3" descr=""/>
          <p:cNvPicPr/>
          <p:nvPr/>
        </p:nvPicPr>
        <p:blipFill>
          <a:blip r:embed="rId3"/>
          <a:srcRect l="0" t="0" r="36372" b="6661"/>
          <a:stretch/>
        </p:blipFill>
        <p:spPr>
          <a:xfrm>
            <a:off x="4714920" y="1143000"/>
            <a:ext cx="35845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Nadpis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7650000" cy="927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" descr=""/>
          <p:cNvPicPr/>
          <p:nvPr/>
        </p:nvPicPr>
        <p:blipFill>
          <a:blip r:embed="rId2"/>
          <a:srcRect l="0" t="-373" r="23970" b="4209"/>
          <a:stretch/>
        </p:blipFill>
        <p:spPr>
          <a:xfrm>
            <a:off x="357120" y="1285920"/>
            <a:ext cx="4606920" cy="421488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 txBox="1"/>
          <p:nvPr/>
        </p:nvSpPr>
        <p:spPr>
          <a:xfrm>
            <a:off x="5071680" y="1285560"/>
            <a:ext cx="37861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Po vykonaní fyzickej inventúry na stredisku sa tieto stavy porovnávajú s inventúrnymi stavmi zásob, kde sa pomocou funkcie </a:t>
            </a:r>
            <a:r>
              <a:rPr b="1" i="1" lang="sk-SK" sz="1600" spc="-1" strike="noStrike">
                <a:solidFill>
                  <a:srgbClr val="000000"/>
                </a:solidFill>
                <a:latin typeface="Lucida Sans Unicode"/>
              </a:rPr>
              <a:t>likvidácie</a:t>
            </a: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 (manká, aktivácie prebytku atď.) nastavia skutočné stavy zásob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Pri vzniku záporných zásob na stredisku sa využíva buď funkcia </a:t>
            </a:r>
            <a:r>
              <a:rPr b="1" i="1" lang="sk-SK" sz="1600" spc="-1" strike="noStrike">
                <a:solidFill>
                  <a:srgbClr val="000000"/>
                </a:solidFill>
                <a:latin typeface="Lucida Sans Unicode"/>
              </a:rPr>
              <a:t>zámena surovín</a:t>
            </a: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, alebo funkcia </a:t>
            </a:r>
            <a:r>
              <a:rPr b="1" i="1" lang="sk-SK" sz="1600" spc="-1" strike="noStrike">
                <a:solidFill>
                  <a:srgbClr val="000000"/>
                </a:solidFill>
                <a:latin typeface="Lucida Sans Unicode"/>
              </a:rPr>
              <a:t>optimalizácie spotreby, </a:t>
            </a: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ktorá je posledným krokom pred  spracovaním inventú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Nadpis 1" descr=""/>
          <p:cNvPicPr/>
          <p:nvPr/>
        </p:nvPicPr>
        <p:blipFill>
          <a:blip r:embed="rId1"/>
          <a:stretch/>
        </p:blipFill>
        <p:spPr>
          <a:xfrm>
            <a:off x="512640" y="139680"/>
            <a:ext cx="7363080" cy="128124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2" descr=""/>
          <p:cNvPicPr/>
          <p:nvPr/>
        </p:nvPicPr>
        <p:blipFill>
          <a:blip r:embed="rId2"/>
          <a:srcRect l="0" t="-373" r="8055" b="40166"/>
          <a:stretch/>
        </p:blipFill>
        <p:spPr>
          <a:xfrm>
            <a:off x="642960" y="1428840"/>
            <a:ext cx="7929720" cy="314316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 txBox="1"/>
          <p:nvPr/>
        </p:nvSpPr>
        <p:spPr>
          <a:xfrm>
            <a:off x="571680" y="4857480"/>
            <a:ext cx="792936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Pre dôslednú kontrolu spotreby surovín a tovarov sa využíva funkcia </a:t>
            </a:r>
            <a:r>
              <a:rPr b="1" i="1" lang="sk-SK" sz="1600" spc="-1" strike="noStrike">
                <a:solidFill>
                  <a:srgbClr val="000000"/>
                </a:solidFill>
                <a:latin typeface="Lucida Sans Unicode"/>
              </a:rPr>
              <a:t>monitor spotreby, </a:t>
            </a:r>
            <a:r>
              <a:rPr b="0" lang="sk-SK" sz="1600" spc="-1" strike="noStrike">
                <a:solidFill>
                  <a:srgbClr val="000000"/>
                </a:solidFill>
                <a:latin typeface="Lucida Sans Unicode"/>
              </a:rPr>
              <a:t>v ktorej je detailne viditeľná spotreba na jednotlivých strediskách a skladových kartách podľa rôznych kritéri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8:34:20Z</dcterms:created>
  <dc:creator>A</dc:creator>
  <dc:description/>
  <dc:language>en-US</dc:language>
  <cp:lastModifiedBy>A</cp:lastModifiedBy>
  <dcterms:modified xsi:type="dcterms:W3CDTF">2011-01-27T20:32:40Z</dcterms:modified>
  <cp:revision>10</cp:revision>
  <dc:subject/>
  <dc:title>   APV GOLEM –  Reštauračný informačný systém </dc:title>
</cp:coreProperties>
</file>